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F28-7388-435D-BCCB-A421A035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FB2-9873-488D-8CDD-07E49303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124-DC1C-4A42-BE90-C50EEB9F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5D3-3842-466C-BA59-3C34D2A2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7E3-E9FC-4443-A3E4-0892F1A0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7F5-6BC0-4A51-9A8B-22BCD3F1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782-E948-4965-8408-7EF7E3CC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E2B-18B3-4563-9D38-AE786E07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C5B-BA9C-4B8B-88BE-83F6BC5A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8A6-A0D2-4BAC-9C06-06FE011F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650-1E82-462C-892E-EBD4989E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EEB-3ED1-4EFB-9F9D-B2203778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38F7-527C-4228-AD66-554FC0BC29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105520" cy="34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49528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Evidence and Argument in the Persuasive E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52280"/>
            <a:ext cx="746748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Optima"/>
              </a:rPr>
              <a:t>How does the author support the argum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Optima"/>
              </a:rPr>
              <a:t>By using factual numbers which we call statistic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066680"/>
            <a:ext cx="7925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you continue working on the body of your essay, make sure that you state each of your arguments and that you support your argument with facts, examples, stories, or quotati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066680"/>
            <a:ext cx="7925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will be coming around to talk with some of you about arguments and evidence and I will be asking some of you to share at the end of the worksh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990720"/>
            <a:ext cx="7162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n writing a persuasive essay, an author provides evidence or arguments for their opinion or thesis statement.  Each argument consists of at least one paragraph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990720"/>
            <a:ext cx="7162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look at the following paragraph and think about how the author supports the argument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82296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really need to play a game of soccer?  All you need is a round ball.  A friend of mine is from Cambodia.  One day, when he was 8 years old, a package came to his village.  This was very unusual.  His village was quite poor and the children did not have toys.  The children of his village made a ball with paper, tape and cardboard from the package.  A non-stop game of soccer went on with the homemade ball until it fell apart.  You don’t need expensive stuff to play socc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1676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author’s argu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304920"/>
            <a:ext cx="82296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really need to play a game of soccer?  All you need is a round ball.  A friend of mine is from Cambodia.  One day, when he was 8 years old, a package came to his village.  This was very unusual.  His village was quite poor and the children did not have toys.  The children of his village made a ball with paper, tape and cardboard from the package.  A non-stop game of soccer went on with the homemade ball until it fell apart.  You don’t need expensive stuff to play socc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Optima"/>
              </a:rPr>
              <a:t>You do not need expensive stuff to play soc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12952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Optima"/>
              </a:rPr>
              <a:t>How does the author support the argum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82296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really need to play a game of soccer?  All you need is a round ball.  A friend of mine is from Cambodia.  One day, when he was 8 years old, a package came to his village.  This was very unusual.  His village was quite poor and the children did not have toys.  The children of his village made a ball with paper, tape and cardboard from the package.  A non-stop game of soccer went on with the homemade ball until it fell apart.  You don’t need expensive stuff to play socc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Optima"/>
              </a:rPr>
              <a:t>The author tells us a st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990720"/>
            <a:ext cx="716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riters want to convince their readers of an opinion or point of view they can write a persuasive ess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1066680"/>
            <a:ext cx="7925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you continue working on the body of your essay, make sure that you state each of your arguments and that you support your argument with facts, examples, stories, or quotati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1066680"/>
            <a:ext cx="7925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will be coming around to talk with some of you about arguments and evidence and I will be asking some of you to share at the end of the worksh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990720"/>
            <a:ext cx="7162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n writing a persuasive essay, an author provides evidence or arguments for their opinion or thesis statement.  Each argument consists of at least one paragraph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6680" y="380880"/>
            <a:ext cx="6782040" cy="64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Dogs are very affectionate.  If you want to make a dog’s tail wag, pet him or scratch behind his ears.  You may have tried to pet a cat before.  Sometimes a cat will welcome your affection but more often the cat will walk away.  Pet turtles are not affectionate.  Once in a while a bird might be affectionate but that is a rare bird indeed.  If you want a pet that physical attention and returns the favor, choose a do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ptima"/>
              </a:rPr>
              <a:t>What is the author’s argu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380880"/>
            <a:ext cx="6782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Optima"/>
              </a:rPr>
              <a:t>Dogs are very affectionate.</a:t>
            </a: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  If you want to make a dog’s tail wag, pet him or scratch behind his ears.  You may have tried to pet a cat before.  Sometimes a cat will welcome your affection but more often the cat will walk away.  Pet turtles are not affectionate.  Once in a while a bird might be affectionate but that is a rare bird indeed.  If you want a pet that physical attention and returns the favor, choose a do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12952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Optima"/>
              </a:rPr>
              <a:t>How does the author support the argum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380880"/>
            <a:ext cx="6782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Optima"/>
              </a:rPr>
              <a:t>Dogs are very affectionate.</a:t>
            </a: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  If you want to make a dog’s tail wag, pet him or scratch behind his ears.  You may have tried to pet a cat before.  Sometimes a cat will welcome your affection but more often the cat will walk away.  Pet turtles are not affectionate.  Once in a while a bird might be affectionate but that is a rare bird indeed.  If you want a pet that physical attention and returns the favor, choose a do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380880"/>
            <a:ext cx="678204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tima"/>
              </a:rPr>
              <a:t>Dogs are very affectionate.  If you want to make a dog’s tail wag, pet him or scratch behind his ears.  You may have tried to pet a cat before.  Sometimes a cat will welcome your affection but more often the cat will walk away.  Pet turtles are not affectionate.  Once in a while a bird might be affectionate but that is a rare bird indeed.  If you want a pet that physical attention and returns the favor, choose a do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Optima"/>
              </a:rPr>
              <a:t>The author compares and contrasts dogs with other pe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1066680"/>
            <a:ext cx="7925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you continue working on the body of your essay, make sure that you state each of your arguments and that you support your argument with facts, examples, stories, or quotati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1066680"/>
            <a:ext cx="7925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will be coming around to talk with some of you about arguments and evidence and I will be asking some of you to share at the end of the worksh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990720"/>
            <a:ext cx="7162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n writing a persuasive essay, an author provides evidence or arguments for their opinion or thesis statement.  Each argument consists of at least one paragraph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5105520" cy="3465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4343400"/>
            <a:ext cx="43434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 Arbor Public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Curriculum and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990720"/>
            <a:ext cx="7162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uthor can use a fact, a story, an example, or a quote to support the argu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990720"/>
            <a:ext cx="7162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look at the following paragraph and think about how the author supports the argument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762120"/>
            <a:ext cx="74674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July 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2006, Italy played France in the World Cup final match. Over 1.3 billion people watched on television.  Only 130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ll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ople watched the Super Bowl.  For every football fan in the world there are a thousand soccer fans in the world.  Soccer is the world’s most popular spor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676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author’s argu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76212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July 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2006, Italy played France in the World Cup final match. Over 1.3 billion people watched on television.  Only 130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ll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ople watched the Super Bowl.  For every football fan in the world there are a thousand soccer fans in the world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ccer is the world’s most popular s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2280"/>
            <a:ext cx="74674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July 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2006, Italy played France in the World Cup final match. Over 1.3 billion people watched on television.  Only 130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ll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ople watched the Super Bowl.  For every football fan in the world there are a thousand soccer fans in the world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ccer is the world’s most popular sport.</a:t>
            </a:r>
            <a:r>
              <a:rPr b="0" lang="en-US" sz="3600" spc="-1" strike="noStrike">
                <a:solidFill>
                  <a:srgbClr val="ffffff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Optima"/>
              </a:rPr>
              <a:t>How does the author support the argum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0:33:11Z</dcterms:created>
  <dc:creator>AAPS</dc:creator>
  <dc:description/>
  <dc:language>en-US</dc:language>
  <cp:lastModifiedBy>AAPS</cp:lastModifiedBy>
  <cp:lastPrinted>2007-11-30T21:29:54Z</cp:lastPrinted>
  <dcterms:modified xsi:type="dcterms:W3CDTF">2007-12-06T19:39:02Z</dcterms:modified>
  <cp:revision>18</cp:revision>
  <dc:subject/>
  <dc:title>PowerPoint Presentation</dc:title>
</cp:coreProperties>
</file>